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67E-525D-4BD7-BAB1-D2FE36AA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3821-3B27-46C9-9418-906CCBDA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2BA-C1B7-4D9E-BBEE-25D4A315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D8A2-6E8C-4741-9947-78471E6E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459-AB7E-4682-869F-07597324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4BBF-8456-4E64-A065-143EC41C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FD2-6F29-46C1-93E7-8EFFC913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332-1599-491F-8F79-3265D812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FE2-983A-4D65-AA23-6E8D95F5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2A7-A8DB-4CAE-8AD0-3D302739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2EA-3D0E-4084-995B-B0017910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C00-74DA-47F0-8C0F-0C43FBFB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EC0F-CC92-4FDB-9586-B4E77BE83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01.jp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914400" y="36576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2f2f2"/>
                </a:solidFill>
                <a:latin typeface="黑体"/>
                <a:ea typeface="黑体"/>
              </a:rPr>
              <a:t>单元五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2f2f2"/>
                </a:solidFill>
                <a:latin typeface="黑体"/>
                <a:ea typeface="黑体"/>
              </a:rPr>
              <a:t>护理管理的计划职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4"/>
          <p:cNvSpPr/>
          <p:nvPr/>
        </p:nvSpPr>
        <p:spPr>
          <a:xfrm>
            <a:off x="5135400" y="133020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幼圆"/>
                <a:ea typeface="幼圆"/>
              </a:rPr>
              <a:t>护理管理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6"/>
          <p:cNvSpPr/>
          <p:nvPr/>
        </p:nvSpPr>
        <p:spPr>
          <a:xfrm>
            <a:off x="380880" y="152388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目标管理的基本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制定目标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织实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检查评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二  目标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矩形 6"/>
          <p:cNvSpPr/>
          <p:nvPr/>
        </p:nvSpPr>
        <p:spPr>
          <a:xfrm>
            <a:off x="380880" y="1523880"/>
            <a:ext cx="8305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时间管理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管理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managemen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是指人们面对有限的时间而进行的自我管理、形成 的工作习惯等。为时间的合理利用设计的一系列控制工作，包括对时间进行的计划和分 配，以保证重要工作的顺利完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时间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矩形 6"/>
          <p:cNvSpPr/>
          <p:nvPr/>
        </p:nvSpPr>
        <p:spPr>
          <a:xfrm>
            <a:off x="380880" y="152388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时间管理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以提高工作效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改变对事情的想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严格规定了事情完成的最后期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时间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矩形 6"/>
          <p:cNvSpPr/>
          <p:nvPr/>
        </p:nvSpPr>
        <p:spPr>
          <a:xfrm>
            <a:off x="380880" y="152388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常见时间管理的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A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管理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四象限”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番茄工作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时间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矩形 6"/>
          <p:cNvSpPr/>
          <p:nvPr/>
        </p:nvSpPr>
        <p:spPr>
          <a:xfrm>
            <a:off x="380880" y="152388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、实践管理的基本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确定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计清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分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安排时间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施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总结并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时间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矩形 6"/>
          <p:cNvSpPr/>
          <p:nvPr/>
        </p:nvSpPr>
        <p:spPr>
          <a:xfrm>
            <a:off x="380880" y="1523880"/>
            <a:ext cx="83059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五、时间管理应该具备的基本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具有强烈的时间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具有时间成本效益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具有时效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具有定量控制自己时间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具有鉴别关键事务和一般事务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具有胜任工作的熟练技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具有节约和灵活运用时间的技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时间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C:\Users\二胖\Desktop\护理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图示 18" descr=""/>
          <p:cNvPicPr/>
          <p:nvPr/>
        </p:nvPicPr>
        <p:blipFill>
          <a:blip r:embed="rId2"/>
          <a:stretch/>
        </p:blipFill>
        <p:spPr>
          <a:xfrm>
            <a:off x="1463760" y="2494080"/>
            <a:ext cx="6095880" cy="2236680"/>
          </a:xfrm>
          <a:prstGeom prst="rect">
            <a:avLst/>
          </a:prstGeom>
          <a:ln w="0">
            <a:noFill/>
          </a:ln>
        </p:spPr>
      </p:pic>
      <p:sp>
        <p:nvSpPr>
          <p:cNvPr id="51" name="矩形 16"/>
          <p:cNvSpPr/>
          <p:nvPr/>
        </p:nvSpPr>
        <p:spPr>
          <a:xfrm>
            <a:off x="228600" y="8380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示 8" descr=""/>
          <p:cNvPicPr/>
          <p:nvPr/>
        </p:nvPicPr>
        <p:blipFill>
          <a:blip r:embed="rId2"/>
          <a:stretch/>
        </p:blipFill>
        <p:spPr>
          <a:xfrm>
            <a:off x="536400" y="1262160"/>
            <a:ext cx="8382240" cy="3998880"/>
          </a:xfrm>
          <a:prstGeom prst="rect">
            <a:avLst/>
          </a:prstGeom>
          <a:ln w="0">
            <a:noFill/>
          </a:ln>
        </p:spPr>
      </p:pic>
      <p:sp>
        <p:nvSpPr>
          <p:cNvPr id="56" name="矩形 9"/>
          <p:cNvSpPr/>
          <p:nvPr/>
        </p:nvSpPr>
        <p:spPr>
          <a:xfrm>
            <a:off x="1101960" y="609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计划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380880" y="1523880"/>
            <a:ext cx="84582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计划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计划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是在权衡组织的实际情况后，在工作或行动之前预先拟订的方案。计 划实质上是一系列相关的决策过程。包括制订计划、实施计划和反馈评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6"/>
          <p:cNvSpPr/>
          <p:nvPr/>
        </p:nvSpPr>
        <p:spPr>
          <a:xfrm>
            <a:off x="380880" y="152388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计划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利于实现工作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利于提高工作效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利于管理与控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计划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矩形 6"/>
          <p:cNvSpPr/>
          <p:nvPr/>
        </p:nvSpPr>
        <p:spPr>
          <a:xfrm>
            <a:off x="380880" y="1523880"/>
            <a:ext cx="8305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计划表现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宗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任务或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策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策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规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预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计划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矩形 6"/>
          <p:cNvSpPr/>
          <p:nvPr/>
        </p:nvSpPr>
        <p:spPr>
          <a:xfrm>
            <a:off x="380880" y="1523880"/>
            <a:ext cx="83059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、计划的一般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形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确定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考虑现有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出可选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对比各种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选定最佳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制定辅助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编制预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计划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矩形 6"/>
          <p:cNvSpPr/>
          <p:nvPr/>
        </p:nvSpPr>
        <p:spPr>
          <a:xfrm>
            <a:off x="380880" y="1523880"/>
            <a:ext cx="8305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目标管理的概念及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它是指组织内的管理者和被管理者共同参与管理工作， 通过确定共同目标和个人目标，实行自我管理，共同努力以实现组织总目标的一种管理 思想和管理工作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二  目标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380880" y="1523880"/>
            <a:ext cx="83059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目标管理的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共同参与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整体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自主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强调评价与反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二  目标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UP</dc:creator>
  <dc:description/>
  <dc:language>en-US</dc:language>
  <cp:lastModifiedBy>acer</cp:lastModifiedBy>
  <dcterms:modified xsi:type="dcterms:W3CDTF">2021-07-15T06:44:59Z</dcterms:modified>
  <cp:revision>1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